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media/image11.png" ContentType="image/png"/>
  <Override PartName="/ppt/media/image6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2.jpeg" ContentType="image/jpeg"/>
  <Override PartName="/ppt/media/image1.jpeg" ContentType="image/jpeg"/>
  <Override PartName="/ppt/media/image10.png" ContentType="image/png"/>
  <Override PartName="/ppt/media/image4.jpeg" ContentType="image/jpeg"/>
  <Override PartName="/ppt/media/image2.png" ContentType="image/png"/>
  <Override PartName="/ppt/embeddings/oleObject1.bin" ContentType="application/vnd.openxmlformats-officedocument.oleObject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818C-44A6-4939-A76F-8A6310B59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F295-6E52-444A-B9DD-D8246894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AF1A-27F5-4045-88DB-C5569B5C7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36E1-AB7D-4352-B2E3-F3334D9CD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96EF-ECF4-4925-95AD-15090E274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201C-0F97-4253-80D0-392FA0E4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82B9-00C0-4A2B-9525-D2215032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C7C8-1CCB-4B86-9850-4A109D87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30AF-9FEF-405F-ACB2-C78ECCC5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31D4-C612-4426-8B54-6155058A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AE8C-88C1-4E96-A3A6-A25AA38B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6AB7-41A6-43B2-A13B-F5D07D31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89E8-DDA7-4663-8153-1539BD84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8D55-6D31-4FC1-8924-1BB963D1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7D570-EAA7-4A11-9C7B-036E5B04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FC236-55B2-49D2-8699-144FACB73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51B6F-CA4F-4769-A594-BF3E24AB2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EFFAD-370B-427F-A0BC-CB1EE86D9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D8AF1-6C92-450E-A4F1-D011FCD5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AF25A-AB17-4B9D-898F-07BC0DF7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5481E-7B67-4C76-88A7-FCFD7075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012E0-D675-460A-9FC9-E7BDA2EC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CCA6-8C98-410A-894D-8E8A820E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18DB2-084E-4CA5-811E-8963FDAC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4FD22-5266-4176-8402-EC0C679C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B0004-0A22-4B4B-941D-1AB81DCE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C0A88-5590-4B22-92C8-03D85895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FF468-460E-4A70-B486-038C0E3B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B8FD6-7808-4FE8-A73F-D58ADE2F5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CD0CD-5085-45FB-BF0D-0A4898B35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E7E36-0162-4D57-9D35-A444F642D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D22B2-87DF-4EFC-A1BE-3D3F318F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E1A0A-E45D-4FB2-90E6-6887C590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44C1-C751-432E-853E-CADEDFD6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F429D-7EAB-4EB7-9FE9-C8C7D191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85285-531B-461E-8508-82B5A991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E73F6-F2E9-4456-9EE7-BB70A3BA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A774E-E108-410B-8072-52AD27E4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CD7F1-859E-4049-A6DE-1ACB008B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2F628-D4C0-46AC-B133-EFE92640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835C9-07DB-4A68-B791-1107557E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AE5BA-77A5-4CCA-83D3-4F71C0D3B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38E07-2D96-4377-A046-F4C49D902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03D3-2A68-447A-B8A3-A5D5C407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0A8E-E141-416C-A03B-59794253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C9CE-BC56-445B-8A21-4D948625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4229-6568-4C9A-8F9E-30B3E1B1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D05E-1B6A-486C-BE4C-660F8578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EC04-454B-495F-934E-192C4B0B74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196920" y="6122880"/>
            <a:ext cx="2358360" cy="621360"/>
            <a:chOff x="196920" y="6122880"/>
            <a:chExt cx="2358360" cy="621360"/>
          </a:xfrm>
        </p:grpSpPr>
        <p:graphicFrame>
          <p:nvGraphicFramePr>
            <p:cNvPr id="7" name=""/>
            <p:cNvGraphicFramePr/>
            <p:nvPr/>
          </p:nvGraphicFramePr>
          <p:xfrm>
            <a:off x="196920" y="6122880"/>
            <a:ext cx="588240" cy="539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96920" y="612288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" name=""/>
            <p:cNvSpPr/>
            <p:nvPr/>
          </p:nvSpPr>
          <p:spPr>
            <a:xfrm>
              <a:off x="759240" y="637596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F7E4-E9B0-437E-9342-1F9BBF8038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96920" y="6165720"/>
            <a:ext cx="2358360" cy="621360"/>
            <a:chOff x="196920" y="6165720"/>
            <a:chExt cx="2358360" cy="621360"/>
          </a:xfrm>
        </p:grpSpPr>
        <p:graphicFrame>
          <p:nvGraphicFramePr>
            <p:cNvPr id="51" name=""/>
            <p:cNvGraphicFramePr/>
            <p:nvPr/>
          </p:nvGraphicFramePr>
          <p:xfrm>
            <a:off x="196920" y="6165720"/>
            <a:ext cx="588240" cy="539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6920" y="616572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" name=""/>
            <p:cNvSpPr/>
            <p:nvPr/>
          </p:nvSpPr>
          <p:spPr>
            <a:xfrm>
              <a:off x="759240" y="641880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4" name="" descr=""/>
          <p:cNvPicPr/>
          <p:nvPr/>
        </p:nvPicPr>
        <p:blipFill>
          <a:blip r:embed="rId5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0775-1FED-458D-B24E-28375F5723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196920" y="6122880"/>
            <a:ext cx="2358360" cy="621360"/>
            <a:chOff x="196920" y="6122880"/>
            <a:chExt cx="2358360" cy="621360"/>
          </a:xfrm>
        </p:grpSpPr>
        <p:graphicFrame>
          <p:nvGraphicFramePr>
            <p:cNvPr id="98" name=""/>
            <p:cNvGraphicFramePr/>
            <p:nvPr/>
          </p:nvGraphicFramePr>
          <p:xfrm>
            <a:off x="196920" y="6122880"/>
            <a:ext cx="588240" cy="539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96920" y="612288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" name=""/>
            <p:cNvSpPr/>
            <p:nvPr/>
          </p:nvSpPr>
          <p:spPr>
            <a:xfrm>
              <a:off x="759240" y="637596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60C3-7B91-48DE-8046-4C506F7488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96920" y="6122880"/>
            <a:ext cx="2358360" cy="621360"/>
            <a:chOff x="196920" y="6122880"/>
            <a:chExt cx="2358360" cy="621360"/>
          </a:xfrm>
        </p:grpSpPr>
        <p:graphicFrame>
          <p:nvGraphicFramePr>
            <p:cNvPr id="142" name=""/>
            <p:cNvGraphicFramePr/>
            <p:nvPr/>
          </p:nvGraphicFramePr>
          <p:xfrm>
            <a:off x="196920" y="6122880"/>
            <a:ext cx="588240" cy="539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6920" y="612288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4" name=""/>
            <p:cNvSpPr/>
            <p:nvPr/>
          </p:nvSpPr>
          <p:spPr>
            <a:xfrm>
              <a:off x="759240" y="637596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5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hyperlink" Target="http://secure.iquiero.com/peru/modules/services/security_privacy.asp" TargetMode="External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95640" y="2536920"/>
            <a:ext cx="4749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TECNOLOGIA Y NEGOCIOS”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643280" y="4724280"/>
            <a:ext cx="41767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Tahoma"/>
              </a:rPr>
              <a:t>Cesar Rodrígue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Tahoma"/>
              </a:rPr>
              <a:t>Gerente Desarrollo de Produc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Tahoma"/>
              </a:rPr>
              <a:t>Visanet del Per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11280" y="1717560"/>
            <a:ext cx="2411280" cy="358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B6939-CAC3-4C65-9D33-2C2BD93645A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116000" y="1322280"/>
            <a:ext cx="6264360" cy="469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2E3C6-8C3B-4EEB-9F1D-B44A1200E74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e5ffff"/>
                </a:solidFill>
                <a:latin typeface="Tahoma"/>
              </a:rPr>
              <a:t>Verified by Vis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564000" y="3213000"/>
          <a:ext cx="2232000" cy="122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64000" y="3213000"/>
                    <a:ext cx="2232000" cy="12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A3639-D0A0-438B-9499-7012FE4F60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57360" y="1206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84320" y="692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Transacción VbV…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22400" y="126828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1280" y="3421080"/>
            <a:ext cx="2905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1.Agregar un producto al carri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3114720" y="1292400"/>
            <a:ext cx="2925720" cy="2193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051440" y="3433680"/>
            <a:ext cx="1311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2.Registrar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6107040" y="13064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341040" y="3429000"/>
            <a:ext cx="2602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3. Importe Total en el Carri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122400" y="37004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86760" y="5850000"/>
            <a:ext cx="295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4. Ingresar Tarjeta y vencimien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6"/>
          <a:stretch/>
        </p:blipFill>
        <p:spPr>
          <a:xfrm>
            <a:off x="3135240" y="37130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614040" y="5850000"/>
            <a:ext cx="2113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5. Ingresar Contraseñ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7"/>
          <a:stretch/>
        </p:blipFill>
        <p:spPr>
          <a:xfrm>
            <a:off x="6124680" y="37130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6352920" y="5843520"/>
            <a:ext cx="2631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6. Pantalla final de respues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03240" y="3137040"/>
            <a:ext cx="235080" cy="120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11720" y="2305080"/>
            <a:ext cx="635040" cy="235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43680" y="2165400"/>
            <a:ext cx="1295280" cy="5619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05040" y="4683240"/>
            <a:ext cx="838080" cy="171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19600" y="4740120"/>
            <a:ext cx="571320" cy="142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43680" y="4403880"/>
            <a:ext cx="1219320" cy="3711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8B335-AB83-4F59-ABB2-1B4552EA65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Adopción de VbV a nivel Global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4000" y="1544760"/>
            <a:ext cx="863280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61 países representan el 99% del mercado global de e-commer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763640" y="2781360"/>
          <a:ext cx="5991120" cy="357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2781360"/>
                    <a:ext cx="5991120" cy="35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E6067-2466-4E7E-A637-F3464F84512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4272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Algunas sugerencias para los </a:t>
            </a:r>
            <a:br>
              <a:rPr sz="3200"/>
            </a:b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comercios electrónico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19120" y="1989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dores nue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s más grandes que las norm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s con muchos items repeti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dores apura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irecciones internacion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5EC25-54DE-496F-96BB-2D80799A89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143240" y="2536920"/>
            <a:ext cx="4749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Visa, Por que la Tecnología es Ahora”</a:t>
            </a:r>
            <a:br>
              <a:rPr sz="32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Aplicaciones globales para 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el mercado local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643280" y="5180040"/>
            <a:ext cx="41767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Tahoma"/>
              </a:rPr>
              <a:t>Cesar Rodrígue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Tahoma"/>
              </a:rPr>
              <a:t>Gerente Desarrollo de Produc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Tahoma"/>
              </a:rPr>
              <a:t>Visanet del Per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3961080" cy="3240000"/>
          </a:xfrm>
          <a:prstGeom prst="rect">
            <a:avLst/>
          </a:prstGeom>
          <a:ln w="38160">
            <a:solidFill>
              <a:srgbClr val="6699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F0817-18AF-422B-A661-5EEF622F97FE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presencia de las nuevas tecnologías en la sociedad es cada vez más perceptible y no sólo afecta a factores económicos y empresariales como la producción, la distribución, el mercado o el empleo, sino que comienza a convertirse en piedra angular de cualquier actividad humana modern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" descr="Printed Circuit Board"/>
          <p:cNvPicPr/>
          <p:nvPr/>
        </p:nvPicPr>
        <p:blipFill>
          <a:blip r:embed="rId2"/>
          <a:stretch/>
        </p:blipFill>
        <p:spPr>
          <a:xfrm>
            <a:off x="5724360" y="1844640"/>
            <a:ext cx="29592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35767-8B47-42D4-9CD6-77B65A637F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24160" y="44784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46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desarrollo tecnológico como la Internet, las comunicaciones móviles, banda ancha, satélites, las microondas, etc.– estan produciendo cambios significativos en la estructura económica y social, y en el conjunto de las relaciones social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tamos ante un nuevo modelo social, la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"sociedad globalizada"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en el que las fronteras desaparecen en beneficio de los intercambios de ideas, mensajes, productos, servicios, personas..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" descr="scifi112"/>
          <p:cNvPicPr/>
          <p:nvPr/>
        </p:nvPicPr>
        <p:blipFill>
          <a:blip r:embed="rId2"/>
          <a:stretch/>
        </p:blipFill>
        <p:spPr>
          <a:xfrm>
            <a:off x="5651640" y="2519280"/>
            <a:ext cx="3168360" cy="220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F5E85-36A0-4EAD-BC65-517E7CC632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62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Oportunidades que brinda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Mejora de los procesos de negocio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Con el uso de las nuevas tecnologías, se tiene la gran oportunidad de redefinir los procesos de negocio mejorándolos importantemente y reduciendo sus cos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Mejora de las acciones de comunicación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puede emplear Internet para la mejora de las comunicaciones tanto con los clientes como con los proveedores. Esto repercutirá directamente en los costes de comunicación reduciéndolos drásticam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Fidelización de los clientes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estos momentos, ninguna organización puede permitirse perder clientes. Para ello, tener las correctas estrategias de fidelización de clientes apoyadas por las nuevas tecnologías e Internet puede ser definitiv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453EC-5C9A-403E-BAE7-6D57A2FD88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35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Oportunidades que brinda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Captación de clientes a costes "razonables"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empleando Internet para el desarrollo de acciones a un coste interesante, lo que repercutirá en los ingresos de la empresa con una inversión, y por tanto riesgo, permisib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Reducción de costes de compras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racias a la eliminación de intermediarios, descubrimiento de nuevos proveedores y al uso de subastas en las tiendas virtuales (e-marketplaces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5DCC7-72E6-4B9C-858B-928783EF4E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46040" y="1622520"/>
            <a:ext cx="7935840" cy="440856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68360" y="1647720"/>
          <a:ext cx="8155080" cy="451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647720"/>
                    <a:ext cx="815508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438120" y="387360"/>
            <a:ext cx="796284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Factores Determinantes en </a:t>
            </a:r>
            <a:br>
              <a:rPr sz="3200"/>
            </a:b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la Compra 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virt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619280" y="4024440"/>
            <a:ext cx="2322360" cy="1008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20960" y="35924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Tahoma"/>
              </a:rPr>
              <a:t>3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87F31-995F-4337-ADA0-464EBD1F28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14080" y="1847520"/>
            <a:ext cx="792468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Los tipos de fraude más comunes son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) El uso de tarjetas de crédito robada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b) Utilización de identidades falsas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) Software generador de números de tarjet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) Paginas clonad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79280" y="6112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Fraude en la Internet: Mito o Realidad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24000" y="4094280"/>
            <a:ext cx="2146320" cy="1422360"/>
            <a:chOff x="324000" y="4094280"/>
            <a:chExt cx="2146320" cy="1422360"/>
          </a:xfrm>
        </p:grpSpPr>
        <p:sp>
          <p:nvSpPr>
            <p:cNvPr id="205" name=""/>
            <p:cNvSpPr/>
            <p:nvPr/>
          </p:nvSpPr>
          <p:spPr>
            <a:xfrm>
              <a:off x="324000" y="4094280"/>
              <a:ext cx="2146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Autenticación del Tarjetahabiente 95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684360" y="4640040"/>
              <a:ext cx="1368360" cy="876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"/>
          <p:cNvGrpSpPr/>
          <p:nvPr/>
        </p:nvGrpSpPr>
        <p:grpSpPr>
          <a:xfrm>
            <a:off x="2627280" y="4075200"/>
            <a:ext cx="1765440" cy="1338120"/>
            <a:chOff x="2627280" y="4075200"/>
            <a:chExt cx="1765440" cy="1338120"/>
          </a:xfrm>
        </p:grpSpPr>
        <p:sp>
          <p:nvSpPr>
            <p:cNvPr id="208" name=""/>
            <p:cNvSpPr/>
            <p:nvPr/>
          </p:nvSpPr>
          <p:spPr>
            <a:xfrm>
              <a:off x="2627280" y="4075200"/>
              <a:ext cx="1765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Autenticación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del Comercio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2%</a:t>
              </a: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209" name=""/>
            <p:cNvGraphicFramePr/>
            <p:nvPr/>
          </p:nvGraphicFramePr>
          <p:xfrm>
            <a:off x="3065400" y="4749840"/>
            <a:ext cx="960480" cy="66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65400" y="4749840"/>
                      <a:ext cx="960480" cy="66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1" name=""/>
          <p:cNvGrpSpPr/>
          <p:nvPr/>
        </p:nvGrpSpPr>
        <p:grpSpPr>
          <a:xfrm>
            <a:off x="4716360" y="4075560"/>
            <a:ext cx="1798560" cy="936000"/>
            <a:chOff x="4716360" y="4075560"/>
            <a:chExt cx="1798560" cy="936000"/>
          </a:xfrm>
        </p:grpSpPr>
        <p:sp>
          <p:nvSpPr>
            <p:cNvPr id="212" name=""/>
            <p:cNvSpPr/>
            <p:nvPr/>
          </p:nvSpPr>
          <p:spPr>
            <a:xfrm>
              <a:off x="4851360" y="4686120"/>
              <a:ext cx="1465200" cy="325440"/>
            </a:xfrm>
            <a:prstGeom prst="leftRightArrow">
              <a:avLst>
                <a:gd name="adj1" fmla="val 50000"/>
                <a:gd name="adj2" fmla="val 8962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16360" y="4075560"/>
              <a:ext cx="1798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Encripción del Canal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1%</a:t>
              </a: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6800760" y="4065480"/>
            <a:ext cx="2019240" cy="1739880"/>
            <a:chOff x="6800760" y="4065480"/>
            <a:chExt cx="2019240" cy="1739880"/>
          </a:xfrm>
        </p:grpSpPr>
        <p:sp>
          <p:nvSpPr>
            <p:cNvPr id="215" name=""/>
            <p:cNvSpPr/>
            <p:nvPr/>
          </p:nvSpPr>
          <p:spPr>
            <a:xfrm>
              <a:off x="7376760" y="5075280"/>
              <a:ext cx="979200" cy="7300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800760" y="4065480"/>
              <a:ext cx="2019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Ataques a la base de datos del Comercio (Ejemplo, Hacker)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2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83C2F-B552-4291-92DB-518E409DFE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14080" y="18475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simismo el 47% cree que añadiendo un logo o icono de algunas soluciones dedicadas a la seguridad en las transacciones y que influyan en la confianza del usuario ayudarían a suavizar el miedo de los consumidores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179280" y="6112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Fraude en la Internet: Mito o Realidad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187280" y="4149720"/>
            <a:ext cx="1081080" cy="10555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3780000" y="4221000"/>
            <a:ext cx="822240" cy="9367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96000" y="4005360"/>
            <a:ext cx="793800" cy="122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D47F9-AE24-4314-A7B9-C9EA465672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50920" y="762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Requisitos de Seguridad en los Pag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5360" y="198900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atro Princip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5360" y="285264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utenticación del Comer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95360" y="334800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ncripción del ca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8360" y="437832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utenticación del Cl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5360" y="334800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ncripción del ca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380196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Base de datos ( Información del clien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8B7DA-344D-484C-B85F-4939EE848F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9:48:55Z</dcterms:created>
  <dc:creator>crodriguez</dc:creator>
  <dc:description/>
  <dc:language>en-US</dc:language>
  <cp:lastModifiedBy>jore</cp:lastModifiedBy>
  <dcterms:modified xsi:type="dcterms:W3CDTF">2004-11-25T13:21:24Z</dcterms:modified>
  <cp:revision>51</cp:revision>
  <dc:subject/>
  <dc:title>Visa, Por que la Tecnología es ahora, aplicaciones globales para el mercado local</dc:title>
</cp:coreProperties>
</file>